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05497"/>
        <c:axId val="74282961"/>
      </c:barChart>
      <c:catAx>
        <c:axId val="89505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2961"/>
        <c:crosses val="autoZero"/>
        <c:auto val="1"/>
        <c:lblAlgn val="ctr"/>
        <c:lblOffset val="100"/>
        <c:noMultiLvlLbl val="0"/>
      </c:catAx>
      <c:valAx>
        <c:axId val="74282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5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DBE-2190-4EED-8962-4B580EC5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7E3-5670-4CFB-BF50-F63B1382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C9A-4948-4C27-8AF3-55A540D6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51E-CA97-4677-A99D-E1253CAD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F9F-347A-4395-8074-090F762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89F-13C1-4B80-A56B-729BB820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1A0-EF8B-4692-BABF-433B368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4CE-A485-4F27-9E2F-A61D9B27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D0A-F7AE-4795-BB67-1D0FF289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BBD-5576-45A4-891B-E941BBB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E05-80A7-4D5E-AD5B-B63A436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90B-6F36-4118-A61F-F4C238B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40885-795C-4902-A910-F8AEBA579F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