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093155"/>
        <c:axId val="51330714"/>
      </c:barChart>
      <c:catAx>
        <c:axId val="420931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330714"/>
        <c:crosses val="autoZero"/>
        <c:auto val="1"/>
        <c:lblAlgn val="ctr"/>
        <c:lblOffset val="100"/>
        <c:noMultiLvlLbl val="0"/>
      </c:catAx>
      <c:valAx>
        <c:axId val="513307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0931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93BE-8BE3-4E71-B2AE-E7A65538A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4A69-89B6-44BF-81C5-0A25609D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236D-0F85-47AD-8A20-2DADC65D1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CA32-53F7-404F-BC49-51CE98009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FAC5-7F40-4F05-B9CD-79A58165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E8D8-8E3A-42B2-AD45-E4382491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DF8D-A537-49D3-BE0C-C031A4B2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4FBF-A71D-44A8-B4BD-35BBA309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763E-7CD1-4BD0-B5C5-7178510E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FA03-AF7F-408E-847C-9CAF6E3A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40D9-DA5A-4F18-938B-BB8EACE7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3B7E-939D-48B5-B266-AD99921C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8792E4-3954-468D-984B-817F382BEC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