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61264"/>
        <c:axId val="55611851"/>
      </c:barChart>
      <c:catAx>
        <c:axId val="18261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1851"/>
        <c:crosses val="autoZero"/>
        <c:auto val="1"/>
        <c:lblAlgn val="ctr"/>
        <c:lblOffset val="100"/>
        <c:noMultiLvlLbl val="0"/>
      </c:catAx>
      <c:valAx>
        <c:axId val="55611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61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AA6-AF3E-4A63-B858-188CB445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6A5-24EC-4DD1-AA15-7BC70C4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877-BA8B-496E-A60D-6F173EE4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C9E-03E7-4E24-81A2-4CF9D2C4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B2D-6336-456F-A86D-36B9EE6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DBA-0C1A-4E0F-9E70-78B922A2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B7-810B-41BD-8AFF-6812CA8C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838-913D-4449-8CA1-8150FE23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5AC-8012-4D5D-AFA4-CFD1D86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2A1-C3A4-43DB-9B26-F560507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A6D-9DED-483C-8840-D923DBF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037-5D84-4B8A-9D29-DBCAE59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C7F45-EC37-42FE-8DB6-F8A756D3AC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