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9044"/>
        <c:axId val="30645359"/>
      </c:barChart>
      <c:catAx>
        <c:axId val="7889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45359"/>
        <c:crosses val="autoZero"/>
        <c:auto val="1"/>
        <c:lblAlgn val="ctr"/>
        <c:lblOffset val="100"/>
        <c:noMultiLvlLbl val="0"/>
      </c:catAx>
      <c:valAx>
        <c:axId val="30645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9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CAF-9D43-4514-B4C3-A2E6A601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950-E73E-4044-9553-C848BF90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60D-EF95-4080-8932-2514E36E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8B5-5590-4EAC-A263-7C02552F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30F-ACB2-4424-92F3-CF96044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821-FC4E-451B-853C-CD1F82E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2E2-E744-4CDE-84F3-335E50C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A47-D7F7-427F-B483-5EE1A21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6EF-D685-4254-9541-C1FFABD2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997-9D5A-43F7-A935-D715479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5DB-7F6F-445A-BC3C-DCF1FE69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FDB-2336-4893-B371-12982F2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4604-40E7-459E-9571-33FAF31D6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