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80115"/>
        <c:axId val="79561249"/>
      </c:barChart>
      <c:catAx>
        <c:axId val="24801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61249"/>
        <c:crosses val="autoZero"/>
        <c:auto val="1"/>
        <c:lblAlgn val="ctr"/>
        <c:lblOffset val="100"/>
        <c:noMultiLvlLbl val="0"/>
      </c:catAx>
      <c:valAx>
        <c:axId val="795612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01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91C4-112B-4E54-95F8-1E581053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F53E-9F24-493D-AEE4-4A135F77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F793-B672-45BC-B7CA-37D0AABA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93D-2875-4EDE-B2BB-FA2ABADE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04D7-EBD6-44F4-95FE-4136AFCD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346-3528-4E96-89E9-891D130F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AA2C-5950-4C3E-9F41-8707A971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AE8F-BAE3-4254-B53B-B5C82BE0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5A1A-42CA-42F4-BDB5-FC696D94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CC9F-AF1E-4DB7-95FC-B56FEDB6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CD4A-DA65-48C8-9357-842E9E41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0F1E-7C63-4BD2-A5D9-D4BA9EEB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6EC0C-15A0-4230-B7F8-216FBFB0F6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