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67351"/>
        <c:axId val="10276144"/>
      </c:barChart>
      <c:catAx>
        <c:axId val="25867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76144"/>
        <c:crosses val="autoZero"/>
        <c:auto val="1"/>
        <c:lblAlgn val="ctr"/>
        <c:lblOffset val="100"/>
        <c:noMultiLvlLbl val="0"/>
      </c:catAx>
      <c:valAx>
        <c:axId val="10276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67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F0B-BCA3-43BD-B473-497A5E71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FD2-CF79-404F-819F-84158FA9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F07-48E9-41B8-AD32-D1FD7025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BFD-E34E-41C6-B6CC-0AE48C44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042-45CB-4235-AF84-5BD3366E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CB2D-5BCC-4F1D-A707-058BD39B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5DF-DE59-49E1-BF1A-5F806C65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047-7D0F-4437-A2AD-25561AA0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7F1D-D969-48AE-8507-8981102F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12A-C1E6-4528-802B-853F8812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D4B-3F22-45FE-B0DA-A9ED9A7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36F-C518-45E2-9412-8D3E3DC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8F286-2BCF-4813-A83D-7D08B1F530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