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44600"/>
        <c:axId val="70962135"/>
      </c:barChart>
      <c:catAx>
        <c:axId val="20444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62135"/>
        <c:crosses val="autoZero"/>
        <c:auto val="1"/>
        <c:lblAlgn val="ctr"/>
        <c:lblOffset val="100"/>
        <c:noMultiLvlLbl val="0"/>
      </c:catAx>
      <c:valAx>
        <c:axId val="70962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44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937-B8ED-4709-A8E7-D481CE40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6FB-CD50-4AAA-98E6-39590696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815-425B-4228-A272-AC20977D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FA5-70B9-4341-AE1F-E59BDFB9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8BB-ED3B-46F3-87EF-23BD25B9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98C-3664-4DDC-B38F-49F2453C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02C-C352-4B8E-A932-B8565E8E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FE7-0552-4205-97A9-644AE565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D24-F0FC-42C7-9C0A-4AC938BB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51C-4BAB-4E96-9171-77D74F7B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9C2-ADD6-4959-9024-09EEB0D0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1C9-9D38-49FF-BDCD-F6679BB8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35863-14C4-4BA9-9FE9-AA6C1EE65F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