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458923"/>
        <c:axId val="2183973"/>
      </c:barChart>
      <c:catAx>
        <c:axId val="294589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83973"/>
        <c:crosses val="autoZero"/>
        <c:auto val="1"/>
        <c:lblAlgn val="ctr"/>
        <c:lblOffset val="100"/>
        <c:noMultiLvlLbl val="0"/>
      </c:catAx>
      <c:valAx>
        <c:axId val="21839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4589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9D80-44DA-43E5-AF2A-7EA4F04DE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9943-E694-46BE-80ED-1AFF723E2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EC20-9C6E-4FA7-AF28-1DD63302F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B43A-696E-48A1-999C-B7F91FCB7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64E9-9BB3-4447-A4BC-31371BD40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07BC-5012-46E7-B542-9BEE1F182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650F-B1BA-4871-9305-3288932E8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A362-FB48-4824-A461-C122D8B3B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D5A0-6B10-4CD4-B15F-4E3B4EC69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0F75-1A07-4549-9AF0-83945896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BB2B-F96E-47DC-ACAF-101F868A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835A-399F-4273-8CD1-A2F1866E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83FB91-8FD6-4BAE-A713-6C3D9346398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