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063337"/>
        <c:axId val="98257343"/>
      </c:barChart>
      <c:catAx>
        <c:axId val="240633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57343"/>
        <c:crosses val="autoZero"/>
        <c:auto val="1"/>
        <c:lblAlgn val="ctr"/>
        <c:lblOffset val="100"/>
        <c:noMultiLvlLbl val="0"/>
      </c:catAx>
      <c:valAx>
        <c:axId val="982573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633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36EF-C720-41CF-8328-A84E0D8D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57B6-6496-4003-BF34-A17AEC34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339A-34F0-4015-BDD4-D9F14528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87A5-3DB9-4E9F-BAD3-761AAACF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363E-4F20-4D53-A7FC-56894448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EB1-E53A-4212-BC34-5BAC4B27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1C47-1586-4C55-8A65-707B854D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EC9A-8C1B-4735-916B-8AC4B2A6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9B88-875A-441A-9BAE-95D9117A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DD30-934A-4550-A274-968E8261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1A8E-0F2E-4010-95F3-2E075652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60CB-EE91-4779-91BB-0A28BEC3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30BBB-E63D-4FFB-A819-FE05800680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