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17044"/>
        <c:axId val="83005318"/>
      </c:barChart>
      <c:catAx>
        <c:axId val="349170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05318"/>
        <c:crosses val="autoZero"/>
        <c:auto val="1"/>
        <c:lblAlgn val="ctr"/>
        <c:lblOffset val="100"/>
        <c:noMultiLvlLbl val="0"/>
      </c:catAx>
      <c:valAx>
        <c:axId val="83005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170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612-9CC4-45DB-9E39-DBD6AF22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A8D-862A-49D0-9BA4-B02EFF78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06B-B4B1-4DB8-8608-ED696FDF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30C1-A367-4194-8C54-7689ACE9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B15-0DB0-4462-ADBD-CFFBD710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9A4-E50F-4256-9AA5-69D6F81A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5EC-CD38-447D-90C4-7E0E4E18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BECC-07DA-4194-B9A7-1B2108A0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303-7823-4A35-8D74-05D5A456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468A-5AD8-4224-809E-DE11565A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D8F-5075-4047-9DB8-A7ABF3BB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31F-65A8-428B-954E-76899415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A1D4F-BE2F-4AEF-9C17-416CD08B2C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