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35178"/>
        <c:axId val="98904305"/>
      </c:barChart>
      <c:catAx>
        <c:axId val="41935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04305"/>
        <c:crosses val="autoZero"/>
        <c:auto val="1"/>
        <c:lblAlgn val="ctr"/>
        <c:lblOffset val="100"/>
        <c:noMultiLvlLbl val="0"/>
      </c:catAx>
      <c:valAx>
        <c:axId val="98904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35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C32-C013-4F5B-BB29-FC6173E2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5F2-9DF6-401E-8FBB-F3392EDF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449-2655-45C3-A2F4-334E9607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A98-8F96-4633-86CB-00721E90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055-949F-408A-AAFC-0F8C9F71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4CB-B0AA-4165-ABDB-E9A64AAF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B2D-4137-4205-895D-3239A619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829-BF87-47BF-AA42-4C867693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4CA-E57A-4736-BF55-C97820AB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104-2703-4DF3-8379-2D374B77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341-3246-489B-94D6-24463777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ED0-0813-4593-9C4C-7F967FEC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7C430-CA58-453B-8A8F-52E0EC4B6A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