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06458"/>
        <c:axId val="45680819"/>
      </c:barChart>
      <c:catAx>
        <c:axId val="959064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680819"/>
        <c:crosses val="autoZero"/>
        <c:auto val="1"/>
        <c:lblAlgn val="ctr"/>
        <c:lblOffset val="100"/>
        <c:noMultiLvlLbl val="0"/>
      </c:catAx>
      <c:valAx>
        <c:axId val="456808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064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17CE-33D3-4972-9E55-D4108B62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26FC-C46E-4EE2-A7AC-DB04D8FD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363-A6EA-4F88-B823-6392D47F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8D8-0EE3-4BD1-8000-4FBA8894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0365-C7CC-4A8B-933D-F6E58050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550-339D-4F66-81E4-A4BDD1FE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635-62CE-4C9C-9CF1-E0C0CF94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9F02-46C3-4223-A889-3BA3C9D6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0E4-5106-424B-B978-E3563B6D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3156-CEDB-4D91-BC12-DDD83F3F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F0B-A07B-48CE-8E03-960AC674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3CBF-F529-46B9-BDF0-DE7E9AA7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45087-4B41-4C4E-8577-9D575FF707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