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537586"/>
        <c:axId val="6001955"/>
      </c:barChart>
      <c:catAx>
        <c:axId val="275375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01955"/>
        <c:crosses val="autoZero"/>
        <c:auto val="1"/>
        <c:lblAlgn val="ctr"/>
        <c:lblOffset val="100"/>
        <c:noMultiLvlLbl val="0"/>
      </c:catAx>
      <c:valAx>
        <c:axId val="60019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5375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2E8D-C064-4BD9-A7EB-57DF02FF4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023E-BF1A-4D7C-A76C-CF357C78B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CF78-EAA5-4C93-A2A0-26ACBD175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02D2-9394-4B19-869F-503F07A5C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A4BA-0FC5-4A4A-85F7-49E57368E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6883-0790-4CE9-8208-958AB62A4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EC61-02B8-42CE-9A97-57D31DE66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12F9-F3D9-4D9D-89B6-BC13CD570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18C0-2502-4010-B458-D914B01DB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2DFF-772A-4F87-A06B-BC59F1F7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CD08-8A6F-40C9-BC9D-C66CCE13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A033-D5E0-4C05-A6A5-4AA404F9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EBAF65-232E-48A7-A8C8-44B53779B32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