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76144"/>
        <c:axId val="67535678"/>
      </c:barChart>
      <c:catAx>
        <c:axId val="51476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5678"/>
        <c:crosses val="autoZero"/>
        <c:auto val="1"/>
        <c:lblAlgn val="ctr"/>
        <c:lblOffset val="100"/>
        <c:noMultiLvlLbl val="0"/>
      </c:catAx>
      <c:valAx>
        <c:axId val="6753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6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FF8-D5D0-4D47-BEB7-061C8003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7BC-8244-428D-BBB2-C9CB5EFA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AF7-881B-4C02-A222-16E7E5F9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DAC-3E76-4482-AFCA-08E9F16B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E85-B96A-44C4-82D7-E92FE13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C4E-42BA-42F8-A6E0-3D69E99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5C2-4BC2-4CBC-8F56-72969A13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B56-48E4-4514-906F-037F168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838-669B-456B-9077-906627CA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D45-2E6F-4D41-8C50-715F32E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4C4-3E4A-466C-B2E9-CCA6CD7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38A-E300-4F02-BB3E-A8EFBA3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ECD9D-793F-42C3-9CE7-E05B2CC2DE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