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52980"/>
        <c:axId val="67411540"/>
      </c:barChart>
      <c:catAx>
        <c:axId val="42152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11540"/>
        <c:crosses val="autoZero"/>
        <c:auto val="1"/>
        <c:lblAlgn val="ctr"/>
        <c:lblOffset val="100"/>
        <c:noMultiLvlLbl val="0"/>
      </c:catAx>
      <c:valAx>
        <c:axId val="67411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52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336-B1AA-4FCD-B6BE-DD2A8B94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DC6-167A-4EB9-A001-D1B44135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499-32DD-47B6-8E01-FBAE6308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7DF-0E35-4782-9D49-05B63E0A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7EA-D4B5-4024-9259-4220E2D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6F1-46A3-4428-B83E-661A37BD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0DF-4C63-495A-925A-16F4B209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671-8F7C-4AFE-A747-4BE2F47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9A1-6FBA-4C95-85B2-F748634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C6F-0C9F-45A6-9E1B-E678EABF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41A-4287-4640-B68D-D0A5346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340-93A0-4958-B6C1-3E05377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3F3F4-A342-4392-8C5E-4B75B80801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