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73289"/>
        <c:axId val="5363199"/>
      </c:barChart>
      <c:catAx>
        <c:axId val="56473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199"/>
        <c:crosses val="autoZero"/>
        <c:auto val="1"/>
        <c:lblAlgn val="ctr"/>
        <c:lblOffset val="100"/>
        <c:noMultiLvlLbl val="0"/>
      </c:catAx>
      <c:valAx>
        <c:axId val="5363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3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2E0-112E-48D4-950A-F082EEBA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ACC-6C42-4C1A-91F6-5A97560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3BB-466D-4885-B729-6EC6CBD0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760-80A2-4940-90FA-5912D42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DAD-6022-4127-A997-9C39531A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666-17E2-4497-99F2-79602C73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D7A-879B-4E23-A2FE-50B42B1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5C5-CB1D-478B-AF77-D539E3F2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D8B-0380-44B1-A150-CE1D03F6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D46-5717-4D8D-814C-9278648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DD2-BCC7-4066-A68E-88C3E6F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0C8-6ECB-4E3B-8781-349D793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07725-3CA9-40B1-ACA0-E718109714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