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1932948"/>
        <c:axId val="24554329"/>
      </c:barChart>
      <c:catAx>
        <c:axId val="6193294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554329"/>
        <c:crosses val="autoZero"/>
        <c:auto val="1"/>
        <c:lblAlgn val="ctr"/>
        <c:lblOffset val="100"/>
        <c:noMultiLvlLbl val="0"/>
      </c:catAx>
      <c:valAx>
        <c:axId val="2455432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93294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2E84-E23B-40CD-82BB-F7A716373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EAB7-A876-48C2-A422-B2E1925F7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26E1-F48E-475B-80F5-419D0DEAF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FD18-795D-47C7-9A31-B8AEA9E7C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5FB5-2ABF-408B-8EF1-89D6F1C74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889D-B016-46E3-AF25-3C20E5CF5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67A3-4A88-4C13-A975-8907F2D78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D8D7-79DF-4BA9-8D42-6BCF9682F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6B12-9467-4176-84C2-9239B4F77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C112-13CF-44E0-965B-D9472BEE4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111E-DC74-49DA-9DD9-BB3A76DCC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D5C6-937A-42E1-A759-0F1EBD751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FA5010-DC72-4B0D-9632-D04F89A2EB3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