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893021"/>
        <c:axId val="52770284"/>
      </c:barChart>
      <c:catAx>
        <c:axId val="948930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70284"/>
        <c:crosses val="autoZero"/>
        <c:auto val="1"/>
        <c:lblAlgn val="ctr"/>
        <c:lblOffset val="100"/>
        <c:noMultiLvlLbl val="0"/>
      </c:catAx>
      <c:valAx>
        <c:axId val="527702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930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73A9-F3E4-4486-BE13-AF2B3F4DB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8969-1A9F-44BF-95DF-10A231A9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65E6-8CBE-4AA6-94A1-3DB2E78C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2F91-553D-41FB-8FDD-E3476E8D6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48F0-C562-4A9E-9863-323C908B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C5A5-D7C8-4C84-965B-5186FDF4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5258-2B2D-4499-8285-36BE7279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849B-989D-4FD0-841E-474AF2A2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E5CB-B015-4755-A569-A2C21A6A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8FE4-2893-42E3-8DAA-CEC40A3D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5F9F-979E-4D41-B326-49C00C75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C7F6-190C-464B-9177-1831608F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35837-9512-42AB-A462-AC2CFCE314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