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999926"/>
        <c:axId val="9491134"/>
      </c:barChart>
      <c:catAx>
        <c:axId val="40999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1134"/>
        <c:crosses val="autoZero"/>
        <c:auto val="1"/>
        <c:lblAlgn val="ctr"/>
        <c:lblOffset val="100"/>
        <c:noMultiLvlLbl val="0"/>
      </c:catAx>
      <c:valAx>
        <c:axId val="9491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99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700-FFD4-41F8-A2C8-75620346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A32-87F8-468A-A5BE-FF0A3785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A8A-6F79-4533-9E52-C2F9EF73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A9C-0D68-48F7-8303-56A1E703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181-C0B1-4207-909E-D0239E39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C82-47E9-4B9B-A999-48E22923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FB0-766D-4B27-A509-B645D8A6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B89-C4C4-489B-8211-A4433144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D63-87ED-4A29-9BC4-9DF8C398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A0D-D880-4095-88F9-64BDAFCD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AF6-0973-4F62-A290-16094D92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576-1EB8-4E85-A99C-B244A7D3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81460-3AB4-4B73-B850-229EEADC01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