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18642"/>
        <c:axId val="8889367"/>
      </c:barChart>
      <c:catAx>
        <c:axId val="86318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9367"/>
        <c:crosses val="autoZero"/>
        <c:auto val="1"/>
        <c:lblAlgn val="ctr"/>
        <c:lblOffset val="100"/>
        <c:noMultiLvlLbl val="0"/>
      </c:catAx>
      <c:valAx>
        <c:axId val="8889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18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ECC-5405-4732-881A-0897B4DB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43A-8E1C-4486-B66D-F6AB3AA2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D8E-02B4-4DF5-8385-CA814868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AAA-F585-4ED6-BFD9-99F7F468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9A3-47F4-433F-8C34-CE283EF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7FE-B2A2-439A-99CA-8A2BA4D3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E21-1392-4FA9-B196-098D5F96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9B2-ECFC-444E-B26D-3D5BDE37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E9E-7A48-48C4-A718-A1A93E77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D98-73BC-4E8A-BEA8-BD5976F6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84B-92B8-43C4-802B-6DD9F1A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654-5136-4FA2-9102-654B1994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1080E-00B5-4BF2-89ED-CE5E55CEEC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