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14058"/>
        <c:axId val="99988927"/>
      </c:barChart>
      <c:catAx>
        <c:axId val="82140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88927"/>
        <c:crosses val="autoZero"/>
        <c:auto val="1"/>
        <c:lblAlgn val="ctr"/>
        <c:lblOffset val="100"/>
        <c:noMultiLvlLbl val="0"/>
      </c:catAx>
      <c:valAx>
        <c:axId val="999889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40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C87E-2EFE-4B93-A116-38458015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D2E5-27A8-4CB6-A355-6DD93A7C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2E64-863B-4889-B484-ED2DC5EF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B578-3F7C-443E-B047-68E9FF42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7C66-1F27-4D33-9EA8-8C1BCF7D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A30B-E053-47D5-8D69-DB9DD7DF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667E-1E38-4BC5-8C1A-5199C46F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1D3B-6BE0-45F0-AFD9-44C39F5D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1338-A285-4708-BBE5-560E5865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2C83-0D35-4F97-B486-ED4824CB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7059-B33A-4B24-8A6C-90DE86A9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A9F8-9886-41B9-A9AA-264346BE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B1EC5-567D-4367-88EB-9F233A3564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