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29262"/>
        <c:axId val="43271655"/>
      </c:barChart>
      <c:catAx>
        <c:axId val="35329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71655"/>
        <c:crosses val="autoZero"/>
        <c:auto val="1"/>
        <c:lblAlgn val="ctr"/>
        <c:lblOffset val="100"/>
        <c:noMultiLvlLbl val="0"/>
      </c:catAx>
      <c:valAx>
        <c:axId val="43271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29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377-5122-4048-8230-764CB147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EBD-8000-48DD-9369-61027A11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5A5-4F49-4BFC-AE91-1733B0E9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553-279B-4431-964D-3DB24D64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5FF-B483-4101-8330-17294556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5B0-8AE8-4A1B-832C-446D282E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8CA-DCBB-41D3-97E9-01124F1D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2AB-F1CA-4519-B4DA-2029ED7F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0DB-8D1E-441E-B1F4-0DA21D6E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9C5-42CC-438F-A9AA-96D2E0E5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377-0074-4030-9ECC-0A237167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C5A-0B62-4D6A-A6CF-79A8BBDC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5F718-D144-4EBC-8506-8A844FCF00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