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15213"/>
        <c:axId val="54398418"/>
      </c:barChart>
      <c:catAx>
        <c:axId val="27815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98418"/>
        <c:crosses val="autoZero"/>
        <c:auto val="1"/>
        <c:lblAlgn val="ctr"/>
        <c:lblOffset val="100"/>
        <c:noMultiLvlLbl val="0"/>
      </c:catAx>
      <c:valAx>
        <c:axId val="54398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15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208-8DA2-4728-A006-6A8F0996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15C-DF35-4939-9E76-41802A31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CB0-FC24-4E0B-9D75-9497FFF3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AF2-C9C7-47BC-9D17-0A3740DA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391-B5C0-4028-A5EC-B2DFA662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5A5-53F4-45BD-87C2-191C6756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38B-0BCC-4AAB-B253-9CF3A0FC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A75-B074-4B30-B34A-456EF920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BF1-E17F-4A6E-AF82-5D85F37A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812-5BF5-45D1-AAF9-752059B5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F52-18A7-47E4-9579-D8DD61B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F6D-A680-4214-A4F7-68023A54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975FA-2B43-4412-BAB1-26D67143CA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