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6C19D4F-E0BB-46C2-A9B4-718BDD9F643C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the ag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is it configur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plugi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tart/stop the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733920"/>
            <a:ext cx="5624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 most of this will be uninteresting to most end users; (but you guys are special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agent runs on each managed platform (host mach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gents communicate back to the server (hub-n-spoke mod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t-to-server utilize HTTP(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to-agent utilize proprietary protocol, may optionally use SS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s do not run inside a JBoss instance (unlike the serv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command se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produc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up Configu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gent.properties define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/where to connect to serv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re agent can find th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n information agent uses to sign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SL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e the agent.setup.X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commands servers the agent supports (i.e. commands it will accep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cmdBootstr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location of the plugin directori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gins are dynamically loa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pdkPlugin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g4J log file location, appenders and logg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 in the agent directory located under the main install directo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override its settings by placing an “agent.properties” file located in a “.hq” directory under the home directory of the user to run the agent (used mainly for debugging – end users will rarely want to use thi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/data directory (located under the agent directory) contains configuration information used during runtime such as security token data used to authenticate with the 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and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tt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me of the properties that are of most interes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IP=localh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ort=70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SLPort=74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ecure=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Login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word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IP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Port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resetupTokens=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rootLogger=INFO,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logger.com.jboss.jbossnetwork=IN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default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runtime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in XML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plugin has a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/hq-plugin.xm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es what the plugin sup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 ver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in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o come in future versions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/pdk/plugins directory under the agent directory for the plugin j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ing/Stopp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ndows executable and UNIX script are provid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ex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ed in the same agent directory as the agent.properties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will be renamed in the future (hq=jb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Windows .exe can install itself as a Windows Serv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will create the initial configuration data the agent needs to communication with the server and load its command servers/plugins (agent.properti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configuration data is stored in the agent’s /data directory.  Purge this directory for a clean setu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agent’s /log directory for the logs (unless you modified agent.properties Log4J configur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nfigure the agent to use a secure channel between it and th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the “setup” command line argument to the agent execu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 can define the following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ec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SL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t and stop the agent using the command line and (if you are so blessed as to have a Windows machine) the Windows Services GU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5-07-10T00:43:07Z</dcterms:modified>
  <cp:revision>27</cp:revision>
  <dc:subject/>
  <dc:title>Agent Overview</dc:title>
</cp:coreProperties>
</file>