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65411"/>
        <c:axId val="64837741"/>
      </c:barChart>
      <c:catAx>
        <c:axId val="30265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37741"/>
        <c:crosses val="autoZero"/>
        <c:auto val="1"/>
        <c:lblAlgn val="ctr"/>
        <c:lblOffset val="100"/>
        <c:noMultiLvlLbl val="0"/>
      </c:catAx>
      <c:valAx>
        <c:axId val="64837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5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6F7-C3B5-40E4-A2DF-0F2AF463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248-C408-4227-88DC-61C247B0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EF0-979F-4D4B-9F08-E89E19AF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F9F-D7F0-4B6D-B05B-938D5A05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BE9-CF1B-4F09-8F4C-601B7534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449-2F5C-4C84-8FB0-06E8F3E2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E96-FB0C-424D-9E94-5BE78AB2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120-23EA-4374-89ED-575AB1FA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0AC-F216-4B10-8460-FD209161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187-3428-4352-A411-815C3837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541-8444-4DEC-ADC9-33FC1379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D1E-63DC-463D-86DC-1E285122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C0075-1A6B-4B1C-B1EB-B59A4D5849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