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55251"/>
        <c:axId val="37247942"/>
      </c:barChart>
      <c:catAx>
        <c:axId val="73455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47942"/>
        <c:crosses val="autoZero"/>
        <c:auto val="1"/>
        <c:lblAlgn val="ctr"/>
        <c:lblOffset val="100"/>
        <c:noMultiLvlLbl val="0"/>
      </c:catAx>
      <c:valAx>
        <c:axId val="37247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55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9D7-726A-4E31-817F-3E2360A3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E5A-1A88-4B33-8955-71EDB575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108-5B3E-4BBA-9584-FB350FDC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063-0B13-4B43-B61F-A3A6AB2F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95F-C486-4603-9175-8E45D8CA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6DF-56CD-46DC-8885-6FD6BFE1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D50-6738-4EAD-B19F-4E709DC0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6BC-FC32-4447-AD24-53EE674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6D1-0CF8-4950-B1FA-F0EC447D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F59-BEED-49E2-8AE0-2E56D85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C8C-F34C-4F8E-92E0-0FA40A6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041-C38B-4392-B865-134FBDAC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BF58D-0B9D-4326-A5A7-F270E574E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