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62181"/>
        <c:axId val="66782150"/>
      </c:barChart>
      <c:catAx>
        <c:axId val="10262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82150"/>
        <c:crosses val="autoZero"/>
        <c:auto val="1"/>
        <c:lblAlgn val="ctr"/>
        <c:lblOffset val="100"/>
        <c:noMultiLvlLbl val="0"/>
      </c:catAx>
      <c:valAx>
        <c:axId val="66782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62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139-1469-4965-87D1-DD864E1F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61E-3548-4C07-9662-F429C01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528-7E53-472D-BFF1-2760214F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3C2-C914-4827-8A00-9118B517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18E-97F7-4B56-B23C-0A5C05FD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43F-AFB6-4F64-A7F2-4B0EB47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C09-08C3-449D-AEFB-A7009DF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16C-E5D3-4675-9234-287076A8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001-5BBC-43C8-ACB1-9480EDE9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356-A4D3-4CD2-A5BE-71987BA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A9E-6F0C-4412-A2EB-187DD2F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517-AF7B-4D01-98FD-79291A6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045E4-53CB-49C3-B883-61E7FDD56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