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12456"/>
        <c:axId val="55387976"/>
      </c:barChart>
      <c:catAx>
        <c:axId val="87512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87976"/>
        <c:crosses val="autoZero"/>
        <c:auto val="1"/>
        <c:lblAlgn val="ctr"/>
        <c:lblOffset val="100"/>
        <c:noMultiLvlLbl val="0"/>
      </c:catAx>
      <c:valAx>
        <c:axId val="55387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12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E4F-A2EF-4AD9-B98D-6D2A470C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360-1794-408E-B7FD-CEFAED7B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C43-A047-4789-A7DD-3838E8E3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D9E-AE2F-4324-86FA-81F634B2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32A-3BF1-4B08-8267-52BF9C1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CD5-E0FA-40D3-9BCA-E2F252E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2BC-93C7-4316-AAA5-2BD16676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D0C-4164-40C0-8D57-D09049F7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8F3-C7DC-40D7-B664-5BEB5EA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CAD-16E9-4155-9B31-0C39BD6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C80-DE03-45BC-A2B6-AC5EF64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2EA-8F34-487A-A5E3-D5467093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1751-105A-46EF-AEA0-6ED8BD47C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