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82784"/>
        <c:axId val="43874564"/>
      </c:barChart>
      <c:catAx>
        <c:axId val="86382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74564"/>
        <c:crosses val="autoZero"/>
        <c:auto val="1"/>
        <c:lblAlgn val="ctr"/>
        <c:lblOffset val="100"/>
        <c:noMultiLvlLbl val="0"/>
      </c:catAx>
      <c:valAx>
        <c:axId val="43874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82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623-44A8-4C8C-A25A-565BAACA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719-FFFC-46AD-9893-63FE3C8E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65E-5BFA-4DEF-8B5A-B1507D72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07C-4780-4A00-AD77-F79A7F34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101-B720-4FF2-A132-3D5EA0FE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EF6-0C7B-404E-B3D8-81B7BCE4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5C0-4006-4C2E-BC1C-DF4E156B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7FD-2BBD-4F20-856A-83D1F059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517-F4E5-43B6-9AEE-FD844E83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34A-18EF-46E2-8442-4FF6C8D6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9FA-B36D-4702-9BFE-CEF0F6D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903-555A-4EA3-8C45-EFCAFC2E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518B2-1B7D-4C80-A1AE-CA25B14D5B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