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06220"/>
        <c:axId val="24346625"/>
      </c:barChart>
      <c:catAx>
        <c:axId val="99606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46625"/>
        <c:crosses val="autoZero"/>
        <c:auto val="1"/>
        <c:lblAlgn val="ctr"/>
        <c:lblOffset val="100"/>
        <c:noMultiLvlLbl val="0"/>
      </c:catAx>
      <c:valAx>
        <c:axId val="24346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06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DE9-EE4D-4147-AE09-EF49B99D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70A-BC13-4FD4-B96D-C999CC6B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3CB-4CA8-4594-943B-B44CBFDD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958-9425-499B-A1DB-69D52D0B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93D-A770-41D4-AF72-DE689866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6A9-C679-46B5-980C-CBF3A8DE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B5E-CD10-4180-880C-21533A48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A9F-EDBF-4C42-8E40-429967B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670-C3AD-451C-BCE1-96B8557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ADE-A538-4B2A-9D79-66B50E3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53C-5B5A-45F4-989A-0A43C87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2E6-9C7A-4CB1-A1B6-D8718F55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00DD7-EF9D-410B-8784-85CC4C735C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