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98356"/>
        <c:axId val="30609399"/>
      </c:barChart>
      <c:catAx>
        <c:axId val="99698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9399"/>
        <c:crosses val="autoZero"/>
        <c:auto val="1"/>
        <c:lblAlgn val="ctr"/>
        <c:lblOffset val="100"/>
        <c:noMultiLvlLbl val="0"/>
      </c:catAx>
      <c:valAx>
        <c:axId val="30609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98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81A-9F66-4881-969A-0BC6A89F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42D-E9DE-4059-A29A-0015A5E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D30-805E-4F4D-96F3-B7C64DFC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238-654A-4302-95C4-88C2AA25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D62-66E9-4FDA-B4AE-35CB870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A6C-0853-498E-8474-E97CC608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278-4F9F-49FC-A70B-94CE42B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70F-12DF-4613-96EF-63C4CF7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82E-69F3-4C07-9466-276C15B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F67-601A-478A-8531-046EC03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B74-FA93-488A-9768-935D22B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D52-3083-4EFD-8C2A-848A577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8329-56AE-4D1E-9C35-667B95180D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