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35614"/>
        <c:axId val="14518502"/>
      </c:barChart>
      <c:catAx>
        <c:axId val="28335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18502"/>
        <c:crosses val="autoZero"/>
        <c:auto val="1"/>
        <c:lblAlgn val="ctr"/>
        <c:lblOffset val="100"/>
        <c:noMultiLvlLbl val="0"/>
      </c:catAx>
      <c:valAx>
        <c:axId val="14518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35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F3C-4F31-488A-800C-2BF27D6F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A20-A53C-486B-BC05-9E81092C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683-1383-411E-BF80-694B5FB0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A17-A590-4143-9899-8214B084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A87-6B39-4DC1-9236-960F4394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60D-B4DF-493F-84B0-EE860782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B45-DF2B-485F-8127-7FB280AC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0EA-9A8F-48E1-9A1C-5C2092C2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64F-6B6C-4D41-9724-F13E3C68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390-2249-4FD2-88B5-9F3D2385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F12-22D2-41B8-A7B6-00B62263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E203-29AD-430E-B5A1-1C5CD844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9FDD1-F6C2-4C9B-A835-D3873DA992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