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50992"/>
        <c:axId val="25320994"/>
      </c:barChart>
      <c:catAx>
        <c:axId val="82850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0994"/>
        <c:crosses val="autoZero"/>
        <c:auto val="1"/>
        <c:lblAlgn val="ctr"/>
        <c:lblOffset val="100"/>
        <c:noMultiLvlLbl val="0"/>
      </c:catAx>
      <c:valAx>
        <c:axId val="25320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0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DA4-AC5B-4134-B097-74620BA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23A-BAB6-4375-9DFF-FC2ACBE4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ACD-FD79-406D-B860-E8562748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EDE-5DF9-4494-9DD2-29429B37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BF5-2AB2-4C4E-A68A-FC56A818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D25-CE86-4E25-A3A0-7870636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631-61DD-4921-BF6A-1C1456F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E0F-D1FB-4CAB-890E-F46661C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CFD-2C70-4015-8E30-0330C15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ABE-D99F-4ABA-B56F-B7A56235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7D2-2D19-4281-A041-DFB23D7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367-C1AD-4521-8F9B-5434C80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CCD27-E65B-418F-B6D3-BD76F5C2F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