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51738"/>
        <c:axId val="91736945"/>
      </c:barChart>
      <c:catAx>
        <c:axId val="12851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36945"/>
        <c:crosses val="autoZero"/>
        <c:auto val="1"/>
        <c:lblAlgn val="ctr"/>
        <c:lblOffset val="100"/>
        <c:noMultiLvlLbl val="0"/>
      </c:catAx>
      <c:valAx>
        <c:axId val="917369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51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6AB-92C7-415D-862A-5051A029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3A1-B79B-4F90-8C58-C28EF83F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92E-9A64-4805-A06D-7665A504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3EA-2E72-4F93-B6B0-598A33D4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7B1-9224-4081-BCBF-8EA70ED8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76D-C323-43E7-BED5-AD3F73B3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DE0-6575-4FEC-9B43-3BE8E956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EE9-3F43-4986-8182-28316A1C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BCB-D662-49F5-BBE6-6288AB05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BBBE-1CBF-4673-AE02-28EA06FF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D04-1D2C-47D2-9513-F2E74C83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132-F5B5-4BA9-867F-B99B5DB8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25DC4-FDB8-4372-9654-C5A2B28FF8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