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32206"/>
        <c:axId val="23395321"/>
      </c:barChart>
      <c:catAx>
        <c:axId val="44332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95321"/>
        <c:crosses val="autoZero"/>
        <c:auto val="1"/>
        <c:lblAlgn val="ctr"/>
        <c:lblOffset val="100"/>
        <c:noMultiLvlLbl val="0"/>
      </c:catAx>
      <c:valAx>
        <c:axId val="23395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32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55C-873F-4D12-A881-926F3100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BA5-99BD-4BA4-A84D-DF978BBB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03E-C3B4-4E20-81A2-A2B6EA1A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F31-59EA-4678-87BF-15FC3756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0A4-A5E8-4B0C-BA86-4B539812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B40-F2CB-4751-A080-FECEFEE0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6EC-D0ED-463B-AC4E-8089BB43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232-6004-41D7-8383-2A27F540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217-4860-407D-9C6D-CEE9EB54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506-9A2D-426E-8E40-55748375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560-672A-432E-9CBD-CDB3D735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D55-314C-4941-83DD-37958EC3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6F436-88D3-4943-BD3C-92DB05AA4E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