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4992156"/>
        <c:axId val="39847298"/>
      </c:barChart>
      <c:catAx>
        <c:axId val="9499215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847298"/>
        <c:crosses val="autoZero"/>
        <c:auto val="1"/>
        <c:lblAlgn val="ctr"/>
        <c:lblOffset val="100"/>
        <c:noMultiLvlLbl val="0"/>
      </c:catAx>
      <c:valAx>
        <c:axId val="3984729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99215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25877-1118-4B3B-A556-80989DA2C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85335-3E50-4DC6-A29E-7107DF7B5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0ED81-2EA5-40C9-AA56-60EAB9751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E2A39-9D02-4A06-A0EB-971838A01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1BEF7-4AB0-4DBA-BA50-039204E63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0A407-FCD2-4C4E-822D-4531B9182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89694-26E5-4041-B9BF-753C7C40A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91CFE-F87D-4DFF-AB38-50CBB0CE3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84788-3AAE-4645-A35C-FF0FBED87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53973-6694-4402-B6F2-EBD512DC1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207B4-992A-4B50-8C4A-C247F5FAE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9FB39-823B-4161-91EE-8FB7662E9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342118-660E-45A0-BAE4-6312543DCB9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